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462-C660-463D-B956-C5C8F740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E34-8006-4DD7-9E9C-7F56EFF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73D-0201-411C-878D-B03C1F70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BCA-6B33-49C4-BF82-45B54F26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64B8-FF01-4B2D-AEC3-E139D694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9162-278C-417E-97BA-6C9A368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6D8E-BD45-4DB5-87BD-37EF263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7D6-045F-458C-A90C-1843397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ABB-D429-4424-B1CA-B1A2A39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886C-866A-4401-ADC7-24C5A34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FAA-542B-407B-A471-2480809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081-0185-4E8C-BBCE-6C54BBD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4CF1-B2FB-4592-BDE5-4D1991E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6B5-088A-4AE4-98B9-660FFB8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C4A2-353F-461D-B44C-C00BE94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7893-DC73-455D-BCB7-C95D2656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169-E9F4-4AA0-8CEB-1EFC1836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F3C-339D-4C8D-B3C6-D59A8D2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E21-441B-4F44-8C05-C52CAD7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109-090D-4E38-9BE7-3C65BC8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10D-9A4E-4725-A6B5-CADCA7E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B42-2FB0-4D7F-AB42-8D09C03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926-9AC6-4003-ACE1-0648A6C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F30-ACE8-416D-B2F3-203F80F1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Rectangle 7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1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AutoShape 8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AutoShape 9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17DE-F12E-431C-91FF-BB59BC65D62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Rectangle 8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1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AutoShape 9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AutoShape 10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F138-0342-4DDE-B4DF-45DEBE42A5C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2.uni-jena.de/chemie/geowiss/angeol/projekte/xenolith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114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y Teena and Phil Della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the tune of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Joy to the World”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609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imes New Roman"/>
              </a:rPr>
              <a:t>Relative Dating Karaoke</a:t>
            </a:r>
            <a:endParaRPr b="1" lang="en-US" sz="7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242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Cross-cutting relationships – faults and dikes are younger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10" descr="Fig5a"/>
          <p:cNvPicPr/>
          <p:nvPr/>
        </p:nvPicPr>
        <p:blipFill>
          <a:blip r:embed="rId1"/>
          <a:stretch/>
        </p:blipFill>
        <p:spPr>
          <a:xfrm>
            <a:off x="1066680" y="925560"/>
            <a:ext cx="6782040" cy="31986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 they cut acros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1" name="Picture 4" descr="faults"/>
          <p:cNvPicPr/>
          <p:nvPr/>
        </p:nvPicPr>
        <p:blipFill>
          <a:blip r:embed="rId1"/>
          <a:stretch/>
        </p:blipFill>
        <p:spPr>
          <a:xfrm>
            <a:off x="2514600" y="228600"/>
            <a:ext cx="3886200" cy="50292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 they cut across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Picture 4" descr="faults"/>
          <p:cNvPicPr/>
          <p:nvPr/>
        </p:nvPicPr>
        <p:blipFill>
          <a:blip r:embed="rId1"/>
          <a:stretch/>
        </p:blipFill>
        <p:spPr>
          <a:xfrm>
            <a:off x="1676520" y="838080"/>
            <a:ext cx="5979960" cy="39704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the layers, the layers they cut across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5" name="Picture 4" descr="rocks9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32590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Is much cheaper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an absolute dating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" name="Picture 3" descr="victoria turns 5"/>
          <p:cNvPicPr/>
          <p:nvPr/>
        </p:nvPicPr>
        <p:blipFill>
          <a:blip r:embed="rId1"/>
          <a:stretch/>
        </p:blipFill>
        <p:spPr>
          <a:xfrm>
            <a:off x="1676520" y="676440"/>
            <a:ext cx="5943600" cy="39193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ncluded fragments or xenolith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0" name="Picture 4" descr="xenolith"/>
          <p:cNvPicPr/>
          <p:nvPr/>
        </p:nvPicPr>
        <p:blipFill>
          <a:blip r:embed="rId1"/>
          <a:stretch/>
        </p:blipFill>
        <p:spPr>
          <a:xfrm>
            <a:off x="2514600" y="609480"/>
            <a:ext cx="467532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 than the rock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2" name="Picture 4" descr="xenolith1"/>
          <p:cNvPicPr/>
          <p:nvPr/>
        </p:nvPicPr>
        <p:blipFill>
          <a:blip r:embed="rId1"/>
          <a:stretch/>
        </p:blipFill>
        <p:spPr>
          <a:xfrm>
            <a:off x="1981080" y="685800"/>
            <a:ext cx="5486400" cy="38545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 than the rock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" name="Picture 4" descr="xenoli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770040"/>
            <a:ext cx="5333760" cy="40161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re older, older than the rock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Picture 4" descr="XenolithDonnerPass"/>
          <p:cNvPicPr/>
          <p:nvPr/>
        </p:nvPicPr>
        <p:blipFill>
          <a:blip r:embed="rId1"/>
          <a:stretch/>
        </p:blipFill>
        <p:spPr>
          <a:xfrm>
            <a:off x="1600200" y="762120"/>
            <a:ext cx="6095880" cy="41115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Compares two thing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" name="Joy To The World - Instrumental with Lyrics (no vocals)" descr=""/>
          <p:cNvPicPr/>
          <p:nvPr/>
        </p:nvPicPr>
        <p:blipFill>
          <a:blip r:embed="rId1"/>
          <a:stretch/>
        </p:blipFill>
        <p:spPr>
          <a:xfrm>
            <a:off x="3238560" y="12574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Is not complete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Some layers may be missing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01840" y="0"/>
            <a:ext cx="211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1" lang="en-US" sz="305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Unconformity – is missing time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1" name="Picture 3" descr="unconformity_final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2712960"/>
          </a:xfrm>
          <a:prstGeom prst="rect">
            <a:avLst/>
          </a:prstGeom>
          <a:ln w="0">
            <a:noFill/>
          </a:ln>
        </p:spPr>
      </p:pic>
      <p:sp>
        <p:nvSpPr>
          <p:cNvPr id="132" name="Line 5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 have disappeared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4" name="Picture 4" descr="unconformity"/>
          <p:cNvPicPr/>
          <p:nvPr/>
        </p:nvPicPr>
        <p:blipFill>
          <a:blip r:embed="rId1"/>
          <a:stretch/>
        </p:blipFill>
        <p:spPr>
          <a:xfrm>
            <a:off x="1219320" y="838080"/>
            <a:ext cx="6705360" cy="3570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135" name="Line 6"/>
          <p:cNvSpPr/>
          <p:nvPr/>
        </p:nvSpPr>
        <p:spPr>
          <a:xfrm flipH="1" flipV="1">
            <a:off x="7009920" y="2361960"/>
            <a:ext cx="1143000" cy="75960"/>
          </a:xfrm>
          <a:prstGeom prst="line">
            <a:avLst/>
          </a:prstGeom>
          <a:ln w="316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 have disappear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7" name="Picture 4" descr="unconformity"/>
          <p:cNvPicPr/>
          <p:nvPr/>
        </p:nvPicPr>
        <p:blipFill>
          <a:blip r:embed="rId1"/>
          <a:stretch/>
        </p:blipFill>
        <p:spPr>
          <a:xfrm>
            <a:off x="1371600" y="1001880"/>
            <a:ext cx="6324480" cy="361620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533520" y="3200400"/>
            <a:ext cx="914400" cy="0"/>
          </a:xfrm>
          <a:prstGeom prst="line">
            <a:avLst/>
          </a:prstGeom>
          <a:ln w="414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layers, if layers have disappear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0" name="Picture 3" descr="Unconformity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2195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o see which one’s older.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Picture 3" descr="2003_11_15"/>
          <p:cNvPicPr/>
          <p:nvPr/>
        </p:nvPicPr>
        <p:blipFill>
          <a:blip r:embed="rId1"/>
          <a:stretch/>
        </p:blipFill>
        <p:spPr>
          <a:xfrm>
            <a:off x="2666880" y="304920"/>
            <a:ext cx="3886200" cy="5181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The law of superposition – oldest is on the bottom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6" name="Picture 6" descr="flatLayer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35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1127520" y="3546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ldest</a:t>
            </a: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8440" y="2556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oungest</a:t>
            </a: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 are not overturned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FoldRecumbent"/>
          <p:cNvPicPr/>
          <p:nvPr/>
        </p:nvPicPr>
        <p:blipFill>
          <a:blip r:embed="rId1"/>
          <a:stretch/>
        </p:blipFill>
        <p:spPr>
          <a:xfrm>
            <a:off x="1676520" y="228600"/>
            <a:ext cx="5624280" cy="5424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 are not overturned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2" name="Picture 6" descr="overturn"/>
          <p:cNvPicPr/>
          <p:nvPr/>
        </p:nvPicPr>
        <p:blipFill>
          <a:blip r:embed="rId1"/>
          <a:stretch/>
        </p:blipFill>
        <p:spPr>
          <a:xfrm>
            <a:off x="762120" y="1295280"/>
            <a:ext cx="7924680" cy="32083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486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rocks, if rocks are not overturned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4" name="Picture 5" descr="P0001051"/>
          <p:cNvPicPr/>
          <p:nvPr/>
        </p:nvPicPr>
        <p:blipFill>
          <a:blip r:embed="rId1"/>
          <a:stretch/>
        </p:blipFill>
        <p:spPr>
          <a:xfrm>
            <a:off x="1143000" y="457200"/>
            <a:ext cx="6934320" cy="46227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elative time! Sequences things 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With no specific age.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7" name="Picture 4" descr="105_0525"/>
          <p:cNvPicPr/>
          <p:nvPr/>
        </p:nvPicPr>
        <p:blipFill>
          <a:blip r:embed="rId1"/>
          <a:stretch/>
        </p:blipFill>
        <p:spPr>
          <a:xfrm>
            <a:off x="3048120" y="533520"/>
            <a:ext cx="308592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22:01:23Z</dcterms:created>
  <dc:creator>Mian Liu</dc:creator>
  <dc:description/>
  <dc:language>en-US</dc:language>
  <cp:lastModifiedBy>Della, Teena</cp:lastModifiedBy>
  <cp:lastPrinted>1999-08-23T22:27:22Z</cp:lastPrinted>
  <dcterms:modified xsi:type="dcterms:W3CDTF">2015-05-01T15:33:17Z</dcterms:modified>
  <cp:revision>77</cp:revision>
  <dc:subject/>
  <dc:title>Principles of Geology</dc:title>
</cp:coreProperties>
</file>